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598BC-A9A6-4D4A-A72A-12D1E8A88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58D4D-428E-4BE0-840A-8CDACA36C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C49FA-583E-4256-A1E8-DD3CA0790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2DD2C-2F7F-4FDC-9AF6-1F7FF03E3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EF6F1-272F-4278-9940-B5BA81AA1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DFCB9-581F-4410-89C8-74245618B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966A4-E110-4BCF-AE53-8D66F347F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E7738-E79F-4DC8-812A-BF70E3DA4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78DA9-C313-410F-BEDC-BAB184008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E6569-8099-4A4E-B3D1-21E611B21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28814-8104-4263-AFC0-7AACE37B1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06F9F-7D64-4249-9BA4-2763DC058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8A4F7-4105-4ACE-A7BD-32A02762D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F9B58-4DC8-4F81-B07F-056BDB3E5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34C2B-224A-4AB6-B03C-95D8F6B44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8731A-EC9E-4AE5-B007-B55DADE77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71F0B-3DD7-44B5-B6FA-2EBBA764F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87536-5330-464A-BABE-8BC338F87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5A9FF-3014-4679-8F43-39BCEAA0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108CB-DE4E-4B54-BA0E-FB579AD69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87D8E-B3A6-41FF-B702-2A38543FF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C86C-A38D-415B-B355-24F57F63B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BE2BA-D873-481A-9388-4C01ABA8F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440E-EA37-4087-B4B2-697333D2F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B8EB-4B27-4821-A4AC-9594FAFF065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FA07-531C-4A50-A0EF-7A86B615D50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ctive Learning</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666880"/>
            <a:ext cx="4013280" cy="2082960"/>
          </a:xfrm>
          <a:prstGeom prst="rect">
            <a:avLst/>
          </a:prstGeom>
          <a:noFill/>
          <a:ln w="0">
            <a:noFill/>
          </a:ln>
        </p:spPr>
        <p:txBody>
          <a:bodyPr lIns="90000" rIns="90000" tIns="46800" bIns="46800" anchor="b">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Faculty Dev. Seminar</a:t>
            </a:r>
            <a:endParaRPr b="0" lang="en-US" sz="2400" spc="-1" strike="noStrike">
              <a:solidFill>
                <a:srgbClr val="0066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Karlene Johnson &amp;   </a:t>
            </a:r>
            <a:endParaRPr b="0" lang="en-US" sz="2400" spc="-1" strike="noStrike">
              <a:solidFill>
                <a:srgbClr val="0066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Dr. Randy Bergen</a:t>
            </a:r>
            <a:endParaRPr b="0" lang="en-US" sz="2400" spc="-1" strike="noStrike">
              <a:solidFill>
                <a:srgbClr val="0066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December 4, 2002</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Learning</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Tapping Prior Knowled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Interacting with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Interacting with Cont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Interacting with Ide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Monitoring One’s Own Learn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elected Strategies for Active Learning</a:t>
            </a:r>
            <a:endParaRPr b="1" lang="en-US" sz="3600" spc="-1" strike="noStrike">
              <a:solidFill>
                <a:srgbClr val="003366"/>
              </a:solidFill>
              <a:latin typeface="Arial"/>
            </a:endParaRPr>
          </a:p>
        </p:txBody>
      </p:sp>
      <p:sp>
        <p:nvSpPr>
          <p:cNvPr id="11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hese were chosen as good “starters” for instructors moving to Active Learning strategies.</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Pair-Share</a:t>
            </a:r>
            <a:endParaRPr b="1" lang="en-US" sz="3600" spc="-1" strike="noStrike">
              <a:solidFill>
                <a:srgbClr val="006666"/>
              </a:solidFill>
              <a:latin typeface="Arial"/>
            </a:endParaRPr>
          </a:p>
        </p:txBody>
      </p:sp>
      <p:sp>
        <p:nvSpPr>
          <p:cNvPr id="11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are asked to think about how they would respond to a certain question.  They then pair up with other classmates and discuss their ideas.  A whole class discussion ensues in which students share respon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elicit prior knowledge, interact with text, explore multiple perspectives, structure learning, reflect on one’s own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lit Journal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tudents read text they have a 2-column journal entry.  In the 1st column they record the main ideas and in the 2</a:t>
            </a:r>
            <a:r>
              <a:rPr b="0" lang="en-US" sz="2800" spc="-1" strike="noStrike" baseline="30000">
                <a:solidFill>
                  <a:srgbClr val="003366"/>
                </a:solidFill>
                <a:latin typeface="Arial"/>
              </a:rPr>
              <a:t>nd</a:t>
            </a:r>
            <a:r>
              <a:rPr b="0" lang="en-US" sz="2800" spc="-1" strike="noStrike">
                <a:solidFill>
                  <a:srgbClr val="003366"/>
                </a:solidFill>
                <a:latin typeface="Arial"/>
              </a:rPr>
              <a:t> column they write their personal reactions. </a:t>
            </a:r>
            <a:r>
              <a:rPr b="0" lang="en-US" sz="2400" spc="-1" strike="noStrike">
                <a:solidFill>
                  <a:srgbClr val="003366"/>
                </a:solidFill>
                <a:latin typeface="Arial"/>
              </a:rPr>
              <a:t>(What don’t they understand?  What do they agree or disagree with?  Are these ideas consistent with their past experiences? What examples can they think of?)</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elicit prior knowledge and encourage metacogni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ept Maps</a:t>
            </a:r>
            <a:endParaRPr b="1" lang="en-US" sz="3600" spc="-1" strike="noStrike">
              <a:solidFill>
                <a:srgbClr val="006666"/>
              </a:solidFill>
              <a:latin typeface="Arial"/>
            </a:endParaRPr>
          </a:p>
        </p:txBody>
      </p:sp>
      <p:sp>
        <p:nvSpPr>
          <p:cNvPr id="12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work with a set of concepts and organize them in a flow chart to show how the concepts are related to one another.  Connecting arrows are labeled to articulate the kind of relationship.  </a:t>
            </a:r>
            <a:r>
              <a:rPr b="0" lang="en-US" sz="2400" spc="-1" strike="noStrike">
                <a:solidFill>
                  <a:srgbClr val="003366"/>
                </a:solidFill>
                <a:latin typeface="Arial"/>
              </a:rPr>
              <a:t>(This can be used with text, lecture notes, or background knowledg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elicit prior knowledge or structure learning within a framework for improved retriev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Concept Map</a:t>
            </a:r>
            <a:endParaRPr b="1" lang="en-US" sz="3600" spc="-1" strike="noStrike">
              <a:solidFill>
                <a:srgbClr val="006666"/>
              </a:solidFill>
              <a:latin typeface="Arial"/>
            </a:endParaRPr>
          </a:p>
        </p:txBody>
      </p:sp>
      <p:sp>
        <p:nvSpPr>
          <p:cNvPr id="124" name=""/>
          <p:cNvSpPr/>
          <p:nvPr/>
        </p:nvSpPr>
        <p:spPr>
          <a:xfrm>
            <a:off x="762120" y="243828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5" name="" descr=""/>
          <p:cNvPicPr/>
          <p:nvPr/>
        </p:nvPicPr>
        <p:blipFill>
          <a:blip r:embed="rId1"/>
          <a:stretch/>
        </p:blipFill>
        <p:spPr>
          <a:xfrm>
            <a:off x="1981080" y="2362320"/>
            <a:ext cx="5484960" cy="426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aphor Review</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are asked to write a paragraph telling how the concept is like some (completely different) thing. The idea is that they have to think about the concept in a very different wa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structure knowledge and make connections with prior knowledge.  When prompted to process this as a learning tool, it can also promote metacogni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of a Metaphor Review</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tochondria are lik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atte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ati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tornado</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iver</a:t>
            </a:r>
            <a:endParaRPr b="0" lang="en-US" sz="20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ich of the above choices would be the best ending for this sentence (in your opinion).  Explain your reaso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 of a cell like a city.  In this analogy, what component of the city is like each of the organelles? Describe the relationshi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it Car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spend the last 5 minutes of class writing a response to a prompt by the instructor. The prompt should be aimed at one of the 3 key findings about human learn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elicit prior knowledge, structure learning, or for metacogni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Prompts for the Exit Card</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3 “big ideas” will you take with you from class toda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spect of today’s class will you continue to ponde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question(s) do you continue to have about the ideas discussed in class toda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marize the main ideas of today’s class into no more than 2 senten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ctive Learning?</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read, write, listen and respond, and solve problems within a “higher order thinking” context that promotes analysis, synthesis, and evalu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ructional activities encourage students to be “doing” things and thinking about what they are do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Active Learning Strategies Worth Investigating:</a:t>
            </a:r>
            <a:endParaRPr b="1" lang="en-US" sz="3200" spc="-1" strike="noStrike">
              <a:solidFill>
                <a:srgbClr val="006666"/>
              </a:solidFill>
              <a:latin typeface="Arial"/>
            </a:endParaRPr>
          </a:p>
        </p:txBody>
      </p:sp>
      <p:sp>
        <p:nvSpPr>
          <p:cNvPr id="13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operative Group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se Stud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Based Lea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le Plays and Simula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ance-Based Projec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se strategies require a bit more planning and training for the instructor, but have been shown to be effective at promoting long-term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great resource!</a:t>
            </a:r>
            <a:endParaRPr b="1" lang="en-US" sz="3600" spc="-1" strike="noStrike">
              <a:solidFill>
                <a:srgbClr val="006666"/>
              </a:solidFill>
              <a:latin typeface="Arial"/>
            </a:endParaRPr>
          </a:p>
        </p:txBody>
      </p:sp>
      <p:sp>
        <p:nvSpPr>
          <p:cNvPr id="137" name="PlaceHolder 1"/>
          <p:cNvSpPr>
            <a:spLocks noGrp="1"/>
          </p:cNvSpPr>
          <p:nvPr>
            <p:ph/>
          </p:nvPr>
        </p:nvSpPr>
        <p:spPr>
          <a:xfrm>
            <a:off x="3352680" y="2514600"/>
            <a:ext cx="5029200" cy="3571920"/>
          </a:xfrm>
          <a:prstGeom prst="rect">
            <a:avLst/>
          </a:prstGeom>
          <a:noFill/>
          <a:ln w="0">
            <a:noFill/>
          </a:ln>
        </p:spPr>
        <p:txBody>
          <a:bodyPr lIns="90000" rIns="90000" tIns="46800" bIns="46800" anchor="t">
            <a:normAutofit/>
          </a:bodyPr>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gelo, T. A. &amp; Cross, K. P. (1993).  Classroom assessment techniques:  A handbook for college teachers (2</a:t>
            </a:r>
            <a:r>
              <a:rPr b="0" lang="en-US" sz="2400" spc="-1" strike="noStrike" baseline="30000">
                <a:solidFill>
                  <a:srgbClr val="003366"/>
                </a:solidFill>
                <a:latin typeface="Arial"/>
              </a:rPr>
              <a:t>nd</a:t>
            </a:r>
            <a:r>
              <a:rPr b="0" lang="en-US" sz="2400" spc="-1" strike="noStrike">
                <a:solidFill>
                  <a:srgbClr val="003366"/>
                </a:solidFill>
                <a:latin typeface="Arial"/>
              </a:rPr>
              <a:t> ed.).  San Francisco:  Jossey-Bass.  </a:t>
            </a:r>
            <a:endParaRPr b="0" lang="en-US" sz="2400" spc="-1" strike="noStrike">
              <a:solidFill>
                <a:srgbClr val="003366"/>
              </a:solidFill>
              <a:latin typeface="Arial"/>
            </a:endParaRPr>
          </a:p>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465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000" spc="-1" strike="noStrike">
                <a:solidFill>
                  <a:srgbClr val="003366"/>
                </a:solidFill>
                <a:latin typeface="Arial"/>
              </a:rPr>
              <a:t>$42 new, $28 used on Amazon.com</a:t>
            </a:r>
            <a:endParaRPr b="0" lang="en-US" sz="2000" spc="-1" strike="noStrike">
              <a:solidFill>
                <a:srgbClr val="003366"/>
              </a:solidFill>
              <a:latin typeface="Arial"/>
            </a:endParaRPr>
          </a:p>
        </p:txBody>
      </p:sp>
      <p:pic>
        <p:nvPicPr>
          <p:cNvPr id="138" name="" descr=""/>
          <p:cNvPicPr/>
          <p:nvPr/>
        </p:nvPicPr>
        <p:blipFill>
          <a:blip r:embed="rId1"/>
          <a:stretch/>
        </p:blipFill>
        <p:spPr>
          <a:xfrm>
            <a:off x="938160" y="2514600"/>
            <a:ext cx="2286000" cy="297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umptions:</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t>
            </a:r>
            <a:r>
              <a:rPr b="0" lang="en-US" sz="2200" spc="-1" strike="noStrike">
                <a:solidFill>
                  <a:srgbClr val="003366"/>
                </a:solidFill>
                <a:latin typeface="Arial"/>
              </a:rPr>
              <a:t>Classroom assessment focuses the primary attention of teachers and students on observing and improving learning, rather than on observing and improving teaching.”</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t>
            </a:r>
            <a:r>
              <a:rPr b="0" lang="en-US" sz="2200" spc="-1" strike="noStrike">
                <a:solidFill>
                  <a:srgbClr val="003366"/>
                </a:solidFill>
                <a:latin typeface="Arial"/>
              </a:rPr>
              <a:t>By collaborating with colleagues and actively involving students…faculty and students enhance learning and personal satisfaction.”</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t>
            </a:r>
            <a:r>
              <a:rPr b="0" lang="en-US" sz="2200" spc="-1" strike="noStrike">
                <a:solidFill>
                  <a:srgbClr val="003366"/>
                </a:solidFill>
                <a:latin typeface="Arial"/>
              </a:rPr>
              <a:t>Classroom assessment does not require specialized training; it can be carried out by dedicated teachers from all disciplines.”</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ssessment techniques flow out of educational goals for particular classes.</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7" dur="500"/>
                                        <p:tgtEl>
                                          <p:spTgt spid="14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2" dur="500"/>
                                        <p:tgtEl>
                                          <p:spTgt spid="14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7" dur="500"/>
                                        <p:tgtEl>
                                          <p:spTgt spid="14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22"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example assessment techniques:</a:t>
            </a:r>
            <a:endParaRPr b="1" lang="en-US" sz="32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ddiest point (see handou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sentence summar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o does what to whom, when, where, how, and why vis-à-vis active learning?</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 and con gri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me three reasons why faculty should use active-learning or classroom assessment techniques frequently, and three reasons why they should only use them infrequently or not at al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9" dur="500"/>
                                        <p:tgtEl>
                                          <p:spTgt spid="142">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34" dur="500"/>
                                        <p:tgtEl>
                                          <p:spTgt spid="14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39" dur="500"/>
                                        <p:tgtEl>
                                          <p:spTgt spid="142">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44" dur="500"/>
                                        <p:tgtEl>
                                          <p:spTgt spid="142">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49"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Key Findings from Research on Human Learning</a:t>
            </a:r>
            <a:endParaRPr b="1" lang="en-US" sz="36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following 3 slides are quotes from </a:t>
            </a:r>
            <a:r>
              <a:rPr b="0" i="1" lang="en-US" sz="2000" spc="-1" strike="noStrike">
                <a:solidFill>
                  <a:srgbClr val="006666"/>
                </a:solidFill>
                <a:latin typeface="Arial"/>
              </a:rPr>
              <a:t>How People Learn</a:t>
            </a:r>
            <a:r>
              <a:rPr b="0" lang="en-US" sz="2000" spc="-1" strike="noStrike">
                <a:solidFill>
                  <a:srgbClr val="006666"/>
                </a:solidFill>
                <a:latin typeface="Arial"/>
              </a:rPr>
              <a:t>, a synthesis of research on human learning put out by the National Research Council.</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ortance of Prior Knowledge</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Students come to the classroom with preconceptions about how the world works.  If their initial understanding  is not engaged, they may fail to grasp the new concepts and information that are taught, or they may learn them for purposes of a test but revert to their preconceptions outside the classroo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lication: Instructors need to elicit prior knowledge and build from that starting poi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ortance of Organizing and Contextualizing Knowledge</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o develop competence in an area of inquiry, students must: (a) have a deep foundation of factual knowledge, (b) understand facts and ideas in the context of a conceptual framework, and (c) organize knowledge in ways that facilitate retrieval and applic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mplication: Instructors must teach some knowledge in depth (as opposed to a lot of information superficially), allowing students to encounter the same concept in different contexts and providing students with a strong foundation of conceptual understand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Importance of Students Monitoring Their Own Learning</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 metacognitive approach to instruction can help students learn to take control of their own learning by defining learning goals and monitoring their progress in achieving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lication: Instructors should be incorporating strategies for promoting metacognition (students reflecting on their own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bout Lectures?</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a role in addressing “Key Finding #2”, but do not address the other two key finding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does not generally work unless the students have first had the opportunity to grapple with the issues/concepts individually or in group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more likely to succeed if the listeners have similar background knowledge and if they share an interest in the subje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bout Class Discussions?</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gree to which class discussions qualify as active learning is dependent on the nature and structure of the discus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all students engaged in thinking and talking about the discussion topi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students feel that the class is a “supportive intellectual and emotional environment” that encourages risk-tak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 for Discussion</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e questions that are both accessible and challen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olve all of the students in thinking about the question (ex. Think-Pair-Sh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whole group discussion, prompt students to justify their responses and critique other viewpoints using reasoning, rather than jumping in with the “right” answer immediate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8:31:14Z</dcterms:created>
  <dc:creator>Student</dc:creator>
  <dc:description/>
  <dc:language>en-US</dc:language>
  <cp:lastModifiedBy>North Rockland Schools</cp:lastModifiedBy>
  <dcterms:modified xsi:type="dcterms:W3CDTF">2007-11-02T11:25:05Z</dcterms:modified>
  <cp:revision>10</cp:revision>
  <dc:subject/>
  <dc:title>Active Learning</dc:title>
</cp:coreProperties>
</file>